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EA09-EC24-4620-9552-F208C0A63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55D2-711D-44FB-A5E3-7E62ECCB8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5F41-4F06-4335-860B-80B6BB20D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4A86-A046-4B2E-AC34-2B6A05A36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1441-DA06-4278-B9F3-08ADAE1B2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B890-439A-4B85-BBE7-89B3408A1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8219-CB53-4A99-81A8-5A560766B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1E12-4B39-4671-AEA7-2465BF631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A268-2EC8-4E5D-B54E-EEFFF75C7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9887-22FB-44B5-8782-A9E9B319B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10C3-5045-4DA7-88F7-7E5471C1C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BACC-9AC7-4D8B-BF83-AD272B6E5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849B-A3B7-4807-AFAA-08E1E45D4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23D8-9B1A-437F-B630-7D605A2BA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2E75-C351-4A59-A4D5-9B8E89752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347E-8A11-4D16-AEDF-8DBBD8F32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A165-B3D5-4022-AB3B-C4A7855F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AE23-1A42-4C0D-87C9-5E8CDF66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B787-6D0B-46CA-AF17-11206F71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257B-7D8C-460E-AC59-1646E093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6EAC-AD8C-4D35-B804-3894BE72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1A1A-BFC8-4EEA-B85C-1314D492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9212-F320-475F-BC39-BFE1E920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C1DD-48EF-4BAE-8BBA-207A4FA7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7DAE-275F-457D-A46F-F9634861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A788-44E0-4DAD-A516-C260A8F8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9067-3051-4E64-BA29-09420668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E1E9-436E-486B-8765-20299B83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2703-CEC1-468D-A283-C1EC5885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752B-9735-457A-A5C2-22B0F44A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6F11-B131-4223-BA78-8CAC7A86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E9B6-7ED9-4CBC-86CA-66FBA053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B0BC-2AB0-44A7-A98D-5692C1F0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C2F6-BF81-4101-9E3E-93B930C4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C426-663D-432F-9CF8-DB153E88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BDA7-7238-44F8-BC9E-077DC34A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F2EE-EE9E-43D3-A181-99BFB2F3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704-4BB7-48C6-BB37-4EEC58F3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3339-A88A-43FD-96F2-1D69A68D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DCE7-F274-42FA-8250-4A0D5400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34F2-18CE-4020-B2FF-8745616F6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Rectangle 3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Rectangle 6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8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EBF5-E122-422C-9673-92C164BA24CE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ichelle Kwan: Heart of a Champion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 in 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m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chniqu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hildren are learning how to meditate, to calm their minds.  Once they lear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y will be able to meditate for hou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Beginners-Mind-Meditaion-Technique"/>
          <p:cNvPicPr/>
          <p:nvPr/>
        </p:nvPicPr>
        <p:blipFill>
          <a:blip r:embed="rId1"/>
          <a:stretch/>
        </p:blipFill>
        <p:spPr>
          <a:xfrm>
            <a:off x="5145120" y="26463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chniqu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45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Olympian archer mastered man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luding how to hold the bow, release the string, and aim at the targ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Technique"/>
          <p:cNvPicPr/>
          <p:nvPr/>
        </p:nvPicPr>
        <p:blipFill>
          <a:blip r:embed="rId1"/>
          <a:stretch/>
        </p:blipFill>
        <p:spPr>
          <a:xfrm>
            <a:off x="5145120" y="2727360"/>
            <a:ext cx="38098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chniqu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4687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batik artist uses many special techniques as she creates.  How might an artist acquire these techniq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by say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tist might gain techniques by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batik-technique"/>
          <p:cNvPicPr/>
          <p:nvPr/>
        </p:nvPicPr>
        <p:blipFill>
          <a:blip r:embed="rId1"/>
          <a:stretch/>
        </p:blipFill>
        <p:spPr>
          <a:xfrm>
            <a:off x="5145120" y="2394000"/>
            <a:ext cx="380988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chnical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dj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describe the practical skills and methods used to do an activity such as an art, a craft, or a s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chniqu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45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qu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elle Kwan worked very hard to master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ice skating. Her jumps and landings require gre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.  Ice skating judges have found Michelle to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er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michelle-kwan_07"/>
          <p:cNvPicPr/>
          <p:nvPr/>
        </p:nvPicPr>
        <p:blipFill>
          <a:blip r:embed="rId1"/>
          <a:stretch/>
        </p:blipFill>
        <p:spPr>
          <a:xfrm>
            <a:off x="5678640" y="201780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cus Words - Re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comp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requ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If you need something, you  ______ some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If you are slow to lose your temper, you are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To do a difficult athletic skill, you need to learn 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 When you play a game and try to win, you ___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cus Wor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pete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rb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 contest or a game, you take part in i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pete     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bike rider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termine the fastest ri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65014060-cyclists-compete"/>
          <p:cNvPicPr/>
          <p:nvPr/>
        </p:nvPicPr>
        <p:blipFill>
          <a:blip r:embed="rId1"/>
          <a:stretch/>
        </p:blipFill>
        <p:spPr>
          <a:xfrm>
            <a:off x="5145120" y="2576520"/>
            <a:ext cx="38098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pete     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45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foosball player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termine the best team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US Team Players Billy Pappas (l) and Tom Yore (r) compete at World Cup of Table Soccer"/>
          <p:cNvPicPr/>
          <p:nvPr/>
        </p:nvPicPr>
        <p:blipFill>
          <a:blip r:embed="rId1"/>
          <a:stretch/>
        </p:blipFill>
        <p:spPr>
          <a:xfrm>
            <a:off x="5145120" y="2643120"/>
            <a:ext cx="380988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pe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4611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any sports and games that you coul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.  Think of one that you would enjo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your partner what you would like to compete i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by say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ould like to compete in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Women Ski Jumpers Cant Compete In 2010"/>
          <p:cNvPicPr/>
          <p:nvPr/>
        </p:nvPicPr>
        <p:blipFill>
          <a:blip r:embed="rId1"/>
          <a:stretch/>
        </p:blipFill>
        <p:spPr>
          <a:xfrm>
            <a:off x="5145120" y="2782800"/>
            <a:ext cx="38098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pete     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800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competi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competito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ng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v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 loves 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mpe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races.  In the past, 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arathons, running the 26 miles.  After being injured in a skiing accident, he wanted to contin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arathons so he joined the wheelcha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i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om has proven to be a gre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i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inning a number of races. He is ver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iti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compete"/>
          <p:cNvPicPr/>
          <p:nvPr/>
        </p:nvPicPr>
        <p:blipFill>
          <a:blip r:embed="rId1"/>
          <a:stretch/>
        </p:blipFill>
        <p:spPr>
          <a:xfrm>
            <a:off x="5145120" y="2641680"/>
            <a:ext cx="38098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chniqu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iq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kill and ability in an artistic, sporting, or other practical activity that is developed through training and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chniqu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Breaking_technique"/>
          <p:cNvPicPr/>
          <p:nvPr/>
        </p:nvPicPr>
        <p:blipFill>
          <a:blip r:embed="rId1"/>
          <a:stretch/>
        </p:blipFill>
        <p:spPr>
          <a:xfrm>
            <a:off x="5145120" y="2714760"/>
            <a:ext cx="380988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5T13:05:11Z</dcterms:created>
  <dc:creator>Archer Anita</dc:creator>
  <dc:description/>
  <dc:language>en-US</dc:language>
  <cp:lastModifiedBy>Becky Brandl</cp:lastModifiedBy>
  <dcterms:modified xsi:type="dcterms:W3CDTF">2011-08-15T05:26:48Z</dcterms:modified>
  <cp:revision>4</cp:revision>
  <dc:subject/>
  <dc:title>Michelle Kwan: Heart of a Champion </dc:title>
</cp:coreProperties>
</file>